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96832"/>
        <c:axId val="78234513"/>
      </c:barChart>
      <c:catAx>
        <c:axId val="55196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34513"/>
        <c:crosses val="autoZero"/>
        <c:auto val="1"/>
        <c:lblAlgn val="ctr"/>
        <c:lblOffset val="100"/>
        <c:noMultiLvlLbl val="0"/>
      </c:catAx>
      <c:valAx>
        <c:axId val="7823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96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458-719E-4F94-8FB3-1895FFD7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CA4-80BF-4571-92A6-CD67959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D4D-9141-4D21-A03D-78181A63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862-A060-49E0-9B9F-0B401AFA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F15-8398-4D90-B8EA-5E9C213F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D9A-BEAF-4D0C-AA8B-4EBDCDE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2A0-6628-4B56-ACCE-5B28103A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6A2-7495-45D9-9FF3-E035222F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678-4E7B-4E8D-93B3-35C5DD8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EB9-EF6E-444E-9C89-B4C1E5E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6A0-57D3-4AAC-A621-44B0DB9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3A3-ECCD-41DC-8C0F-96696FA6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024FF-B58A-43A2-9DCA-C0BF48414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