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79729"/>
        <c:axId val="8366452"/>
      </c:barChart>
      <c:catAx>
        <c:axId val="48779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6452"/>
        <c:crosses val="autoZero"/>
        <c:auto val="1"/>
        <c:lblAlgn val="ctr"/>
        <c:lblOffset val="100"/>
        <c:noMultiLvlLbl val="0"/>
      </c:catAx>
      <c:valAx>
        <c:axId val="83664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79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3C70-BD12-4FF0-BF38-25971212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F78-74D0-48C5-9295-71B91F6B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2E7F-3943-48F9-908E-616675C3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F9C-CE0A-4EBA-9CD7-19C52EE4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4E7-958E-472D-B41C-8D43DECC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D750-8B8C-4FAA-ADBA-95A1F06F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B2E2-20D5-4507-A2AD-E963E522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4915-DD1C-4F22-8862-0241B867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7C4-D617-4010-A59C-DE53058B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89DD-ADAB-46A7-A3FB-8FB3A179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BC6-8701-4BD2-8635-E9136211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F378-A5D7-40C1-AB9F-228B0ED6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F34E4-EBF1-4EA8-871F-38CD292B29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