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82145"/>
        <c:axId val="92788558"/>
      </c:barChart>
      <c:catAx>
        <c:axId val="33282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88558"/>
        <c:crosses val="autoZero"/>
        <c:auto val="1"/>
        <c:lblAlgn val="ctr"/>
        <c:lblOffset val="100"/>
        <c:noMultiLvlLbl val="0"/>
      </c:catAx>
      <c:valAx>
        <c:axId val="92788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82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FC7-85A7-4D65-9884-859D70F2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8B9-C84F-4E0A-9A8F-8DC3B1D3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D0D-C472-4FE7-8ECE-4EC14B2E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553-AD7E-46D0-AA24-39354AFB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C64-EABD-4201-8372-957E21C8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DC2-375D-4E1B-8546-6F75BD11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DBA-B4CA-4BAA-BA30-328F6969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214-A0FC-4150-8673-F0FB5558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08D-5AC4-451D-866C-9FDDE97F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0A1-F477-40A4-BBDD-5595C86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A9D-7C3C-45EC-B550-E0589EC7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A1B-639F-4678-8650-154EE4F4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7CBCC-FF0F-493D-9457-8302F329F8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