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102835"/>
        <c:axId val="49940242"/>
      </c:barChart>
      <c:catAx>
        <c:axId val="15102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40242"/>
        <c:crosses val="autoZero"/>
        <c:auto val="1"/>
        <c:lblAlgn val="ctr"/>
        <c:lblOffset val="100"/>
        <c:noMultiLvlLbl val="0"/>
      </c:catAx>
      <c:valAx>
        <c:axId val="499402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02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781-83B9-4DA4-B896-6EAB05D6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000C-CA6D-46AB-AA8C-5EAAA81A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1A5D-F4F4-422D-A90A-9B5006AC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DC9B-49D1-491B-B45E-91B510B2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16C4-F79F-4A81-BBE1-D34037FB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1BB-F96D-4E8D-A76D-E8EA68AC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F370-79BD-4883-A437-ABF28564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4D20-596A-4485-BC88-E6C4B41A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2518-59C6-46F4-8098-4072804A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9F73-E262-4F70-9BCC-B3AD9E03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044A-048B-43A4-B938-FE04E2FB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358-7F67-4292-8EA6-0DA78F25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C4029-EC1A-4E35-88BC-BF72A4D5C4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